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B9F-75C2-4597-B359-4D70F098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B4B-1408-4363-B500-5CC95C52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F4F-DD8A-4B49-BED3-D1F14238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448-448C-4A53-A641-8755819D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2369-966D-4E02-813B-B0515F91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3663-9771-414D-BBE6-C11FEDF0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8125-914E-4993-A7AE-3CA282A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2B75-7CBB-4CE2-B73E-C837D296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0F6-7069-4E6D-89B5-D4EAEB5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8EC-FC34-4AAF-8086-9E3160C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4305-FC88-47B3-B295-D7C88334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A16-C24A-4ABF-8FDE-6C77309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7338-3275-4871-BD0F-F43A255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2C0-5AC3-408E-95D5-1801AD7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D94-3756-41DD-B0B2-A5B6FB9C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12C-2083-450C-91A9-3A20F1B8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74A4-287C-409A-9CA0-1D1C3A91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901-187C-4030-86C2-5D308E7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D42-F3D3-487B-9CC0-0BA7C5BB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54A6-86F6-4B1F-A3C9-AAF1C2D0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DA3-20E4-493E-8456-3AD1CF89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5704-DD70-4824-90BF-0B30361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8F7-BC14-4C4E-B84D-565EF5A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B22-2BCA-4E4D-A231-10420525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D70-2A62-44CF-AAEF-67548B496A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6A3B-6C6A-433B-8E4A-2C0241116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2: Multiplication and Division of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f(x) *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(x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4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values would make one of these functions undef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4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x-5)(x+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+1)(x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(x)= (x-5)(x+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h(0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h(1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2x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g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3x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(0)g(0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(4)g(4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(x), if h(x)=f(x)g(x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rational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two ration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olynomials P, Q, R, and 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either Q or S equa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for Multiplying Rational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numerator and denominator in completely factor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by any common factors in both the numerator and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as needed to form the desire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ith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* x* x*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* 5 *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* y *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*x*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 with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x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Rational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lynomials P, Q, R, and 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for Dividing Ration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 the second rational expression (the divisor) to write the problem as a multiplica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 as if you are doing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with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y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*x*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*2*y*y*y*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*2*2*x*x*x*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*3*x*x*y*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 with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4x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x+8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x-18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6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ying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= f(x) *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the functions in the same way you multiplied expressions when no value for x is spec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 value for x, plug it in an solve.  Watch out for values that make either function undef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4:32:52Z</dcterms:created>
  <dc:creator>nuhs</dc:creator>
  <dc:description/>
  <dc:language>en-US</dc:language>
  <cp:lastModifiedBy>nuhs</cp:lastModifiedBy>
  <dcterms:modified xsi:type="dcterms:W3CDTF">2007-09-25T19:50:33Z</dcterms:modified>
  <cp:revision>9</cp:revision>
  <dc:subject/>
  <dc:title>Algebra 2A</dc:title>
</cp:coreProperties>
</file>